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8B9B-692E-4741-AF60-7683ACEB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8C37-BF20-4551-B34B-AF9B584B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ADE2-9E13-4D70-82CA-A63841E7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559-DAA8-4F3C-9B34-AD0B6B81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5E1-6459-46BE-B014-589F431D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43C-CCCF-4A2E-B153-F31AE3EA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EC79-737B-482A-AC8C-740719E4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9C19-95CC-4DF4-9028-FAF3C869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11A-DD31-45C8-A346-B13CD8B3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9B3-314B-4B2F-ACEA-968BE74C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149-168D-4C22-B2A2-2E93AB83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3E5-03B1-4A4F-9938-56A32E16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330E-67E0-4E5C-B776-D99B18234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4 ASA/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39800" y="609480"/>
            <a:ext cx="7664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2103480"/>
            <a:ext cx="7772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81160" y="609480"/>
            <a:ext cx="6781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558800"/>
            <a:ext cx="77724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2138400"/>
            <a:ext cx="777240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2022480"/>
            <a:ext cx="77724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919160"/>
            <a:ext cx="777240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2505240"/>
            <a:ext cx="77724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804960"/>
            <a:ext cx="77724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773280"/>
            <a:ext cx="75438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136600"/>
            <a:ext cx="777240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935000"/>
            <a:ext cx="777240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2440080"/>
            <a:ext cx="77724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2135160"/>
            <a:ext cx="77724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025640"/>
            <a:ext cx="44956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9040" y="609480"/>
            <a:ext cx="41115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2603520"/>
            <a:ext cx="777240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1316160"/>
            <a:ext cx="77724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312920"/>
            <a:ext cx="777240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1601640"/>
            <a:ext cx="77724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33440" y="609480"/>
            <a:ext cx="6477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399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09800" y="609480"/>
            <a:ext cx="7124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31800"/>
            <a:ext cx="777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22:12:25Z</dcterms:created>
  <dc:creator>PSD</dc:creator>
  <dc:description/>
  <dc:language>en-US</dc:language>
  <cp:lastModifiedBy>Parkland High School</cp:lastModifiedBy>
  <dcterms:modified xsi:type="dcterms:W3CDTF">2010-12-17T15:27:12Z</dcterms:modified>
  <cp:revision>5</cp:revision>
  <dc:subject/>
  <dc:title>4.4 ASA/AAS</dc:title>
</cp:coreProperties>
</file>